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F63B-1D7D-43A4-93FE-A194BE88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s are borrowed from the social sciences.  They are helpful tools for planning programs, specific interventions, research, and M&amp;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hensive view of the factors that drive an intervention – the epidemiology of TB, local resources, donor eff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us see what is contributing to challenges and suc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 can be synergistic or sometimes represent obstacles to our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One example is health-sector reform – can visualize how these changes will affect program with a framework and plan for anticipated challe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 assumptions, goals, and interrelationships among factors relevant to the project o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levels of performance and desired results in terms of planned activities and realistic, objective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and evaluation frameworks incorpor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managers’ assumptions and objectives in a given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atic design displaying the directional linkages between key program elements and/or planned results, and other releva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&amp;E takes place at multiple stages of a program. It is important to identify at the outset how we will gather information at each level of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work drives selection of indicators and reporting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A77-C57A-4858-B38A-044AC91A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574640" y="228600"/>
            <a:ext cx="3557880" cy="26686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22240" y="3077640"/>
            <a:ext cx="52308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y relationship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s are necessary to create processes, which drive the production of outputs an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iterates the point on the previous sli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generic example of an M&amp;E framework for a national TB program.  This framework shows the linear relationships between inputs, processes, outputs, outcomes, and impact.  It also provides a visual interpretation of the broad context for the NTP, which inclu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syste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-econom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ical context of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is to expand on it and create a M&amp;E logical framework that could be used to guide planning, monitoring, and evaluating the introduction of directly observed therapy as the standard of care for smear-positive TB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871-041D-47CC-9796-A401D938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403280" y="863640"/>
            <a:ext cx="4054680" cy="3041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2960" y="4203720"/>
            <a:ext cx="5032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other way to understand frameworks – think about the level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8A5-15ED-4CBF-94D1-D7E9EF45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625760" y="304920"/>
            <a:ext cx="3456000" cy="2592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3125520"/>
            <a:ext cx="510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lusions about M&amp;E frameworks </a:t>
            </a:r>
            <a:br>
              <a:rPr sz="1000"/>
            </a:br>
            <a:br>
              <a:rPr sz="10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meworks allow Program Manager </a:t>
            </a:r>
            <a:br>
              <a:rPr sz="9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cide on what elements to monitor 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an strategically for M&amp;E activities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oose appropriate methodology for M&amp;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 indicators to monitor and evaluation program implement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D00-59EC-4EFD-8311-120E12D4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A85-EDF4-4651-A2C7-C262192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956-58C7-487C-818A-3AF12C05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02A-0251-46A8-ACAA-0DC1C983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C02-D8A8-44A7-9239-A392B72F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BEC6-368A-44DD-B01C-C7935AF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71F-531B-42C3-80BE-C372AE5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15AC-1AC2-42F0-986A-FB7FF902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AFD9-D288-4C32-83D2-723CE25A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58BC-AA4B-4F97-B5F6-2292F46E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F33-E026-462D-8736-248FFC5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732-9DB3-4385-A262-928D3A9F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973-5352-473C-AC94-507E21B5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CF1B-490A-45E8-9849-610E80B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2C84-955F-41F3-8EC3-D82EECB7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5942-EC88-4117-BFCF-415F423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B78-31EF-4228-BD70-394AA685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6EC-775A-4475-BCCE-3C0B6BC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780-DB0C-4918-95C2-D94AADE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FFE-BBBF-4EBD-9CC6-369D99B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2FC-5982-44A5-9B42-5476068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094-40A8-4C5E-A2C9-82F1D28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9E0-5C3D-4940-A5CF-6FDA9DF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6E4-C0C9-4A88-8AA4-D2AF2E8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1D8-94C4-4793-93C7-0EDB249AE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CB4-2540-4FFE-849E-51C9AE630D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onitoring and Evaluation Frame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2860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at is an M&amp;E Frame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 do we use M&amp;E Framewor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 do we develop M&amp;E Framewor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394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396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1" name=""/>
          <p:cNvGraphicFramePr/>
          <p:nvPr/>
        </p:nvGraphicFramePr>
        <p:xfrm>
          <a:off x="2819520" y="5562720"/>
          <a:ext cx="15238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562720"/>
                    <a:ext cx="1523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29797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&amp;E Frame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s, pictures, or m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e the factors that drive an inter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s that illustrate how a progra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lationships between factors that influence program operation and the successful achievement of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do we use M&amp;E framework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2752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nd plann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“map” for progr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between resources an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576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 selection of indicator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E L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OGICAL</a:t>
            </a:r>
            <a:r>
              <a:rPr b="1" lang="en-US" sz="3900" spc="-1" strike="noStrike">
                <a:solidFill>
                  <a:srgbClr val="000000"/>
                </a:solidFill>
                <a:latin typeface="Tahoma"/>
              </a:rPr>
              <a:t> F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</a:rPr>
              <a:t>RAMEWORK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the relationships between program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puts,  Processes,  Outputs, and Outco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the program to desir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4920" y="1219320"/>
            <a:ext cx="1371600" cy="26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nical and manageri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1219320"/>
            <a:ext cx="1752480" cy="336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resource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1219320"/>
            <a:ext cx="144756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1219320"/>
            <a:ext cx="182880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h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1219320"/>
            <a:ext cx="1447920" cy="17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B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4876920"/>
            <a:ext cx="8381880" cy="157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commitment     Health system        Socio-economic conditions      Epi-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ility                                                                                     HIV preva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                                                                                            Mal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tilization                                                                                       Alcohol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457200"/>
            <a:ext cx="6095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E logical framework for TB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814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2362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590920" y="4571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62120" y="3962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781680" y="29718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95680" y="4190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1828800"/>
            <a:ext cx="13716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uidelines for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1828800"/>
            <a:ext cx="1670040" cy="31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ining of HC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ibution of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1828800"/>
            <a:ext cx="1798560" cy="404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CWs trained to provide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rugs available at 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atients receiving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eatment outcomes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1828800"/>
            <a:ext cx="1944720" cy="29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mproved cure  and treatment comple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d failure and defaul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54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1828800"/>
            <a:ext cx="1692360" cy="239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d morbidity/ mortality due to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evention of MDR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228600"/>
            <a:ext cx="8218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Arial"/>
              </a:rPr>
              <a:t>Logic Framework 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Arial"/>
              </a:rPr>
              <a:t>Directly Observ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37320" y="456408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562360" cy="1104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gic Framework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c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act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Level (cohort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leve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44956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4380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763120" y="426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295280"/>
            <a:ext cx="6705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program components should be monito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ic and systematic planning of M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methodology for M&amp;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at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2:06:50Z</dcterms:created>
  <dc:creator>kmacint</dc:creator>
  <dc:description/>
  <dc:language>en-US</dc:language>
  <cp:lastModifiedBy>Carolina Population Center</cp:lastModifiedBy>
  <cp:lastPrinted>2005-02-21T22:17:27Z</cp:lastPrinted>
  <dcterms:modified xsi:type="dcterms:W3CDTF">2006-11-08T17:28:29Z</dcterms:modified>
  <cp:revision>27</cp:revision>
  <dc:subject/>
  <dc:title>Conceptual Frameworks</dc:title>
</cp:coreProperties>
</file>